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E46-8AF6-4977-B8D1-4E915405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8487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107-0C01-448E-A836-37431F07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7720" y="396792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126-D15C-4466-A622-2EB906D2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39720" y="396792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3640" y="396792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372-836F-49BE-B80C-4C045CB4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048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423-56E2-4363-9E16-828BAE3C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7720" y="396792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8487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8487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7720" y="396792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39720" y="396792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93640" y="3967920"/>
            <a:ext cx="25272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F90-272B-4540-A826-86D345EF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457-65CF-4C02-A47E-4392537D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01B-F1D0-45CA-BF74-F401D721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5048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B3B-4B23-4603-B974-6A7416C2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378-CCAB-4962-B253-0CE1615C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7720" y="396792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B0F-FE27-4AEA-B527-AA6FA182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8487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2A3-B183-41B4-B4EB-C59C38DF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869B-DCBD-4CC1-B424-CC745C752B4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685800" y="981000"/>
            <a:ext cx="7848720" cy="76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02.201.162.135/Jwweb/" TargetMode="External"/><Relationship Id="rId2" Type="http://schemas.openxmlformats.org/officeDocument/2006/relationships/hyperlink" Target="http://202.201.162.136/Jwweb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792000" cy="753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755640" y="3141720"/>
            <a:ext cx="8388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面向校机关干部的教学服务资源简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  <a:ea typeface="黑体"/>
              </a:rPr>
              <a:t>教务管理系统使用操作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3853080" y="5013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015.11.1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1054080"/>
            <a:ext cx="792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以“教师教辅人员”身份，用“工资号”登录后，可以看到个人信息、教学任务、教学安排、考试安排、成绩录入、网上评教等</a:t>
            </a:r>
            <a:r>
              <a:rPr b="1" lang="en-US" sz="1600" spc="-1" strike="noStrike">
                <a:solidFill>
                  <a:srgbClr val="000099"/>
                </a:solidFill>
                <a:latin typeface="宋体"/>
              </a:rPr>
              <a:t>7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个常用菜单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可以进行个人教学任务、课程表、监考安排、调课结果、评教结果等查询，进行个人基本信息维护，课程成绩录入，也可以进行空闲教室预约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99128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476720" y="609480"/>
            <a:ext cx="3426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8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系统功能简介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个性化服务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其它功能简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B4B1-D61F-41E2-9246-F7326F0E7736}" type="slidenum">
              <a:rPr b="1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74680" y="1464480"/>
            <a:ext cx="85629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查看教学任务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查看教学任务选择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教学任务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，点击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承担课程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可查看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理论课程任务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，点击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指导环节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可查看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践环节教学任务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55640" y="2133720"/>
            <a:ext cx="7993080" cy="16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Rectangle 6"/>
          <p:cNvSpPr/>
          <p:nvPr/>
        </p:nvSpPr>
        <p:spPr>
          <a:xfrm>
            <a:off x="395280" y="387972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查看课程表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登录教务系统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WEB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界面，选择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教学安排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，点击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教学安排表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，可查看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课程表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；点击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教学安排调整信息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，可查看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调课情况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813744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64280" y="1073160"/>
            <a:ext cx="970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8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个人信息维护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8A11-D567-48E7-A91A-6992234AE3E1}" type="slidenum">
              <a:rPr b="1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755640" y="1773360"/>
            <a:ext cx="8064360" cy="179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Rectangle 7"/>
          <p:cNvSpPr/>
          <p:nvPr/>
        </p:nvSpPr>
        <p:spPr>
          <a:xfrm>
            <a:off x="611280" y="3806640"/>
            <a:ext cx="82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5.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查看监（巡）考安排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登录教务系统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WEB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界面，选择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考试安排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，点击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考试安排表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可查看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所承担课程的考试安排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。点击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监考安排表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，可查看你自己的监考安排（自己需要监考）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826920" y="4581360"/>
            <a:ext cx="813780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Rectangle 18"/>
          <p:cNvSpPr/>
          <p:nvPr/>
        </p:nvSpPr>
        <p:spPr>
          <a:xfrm>
            <a:off x="611280" y="1215720"/>
            <a:ext cx="806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教师网上打印上课点名册（查看选课学生名单 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登录教务系统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WEB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界面，选择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成绩录入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，点击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分课程按上课班级打印上课点名册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，可以查询、导出、打印上课点名册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6DD7-30AA-476F-876D-0BBAF5F94754}" type="slidenum">
              <a:rPr b="1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4360" y="1145880"/>
            <a:ext cx="799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成绩录入、打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登录教务系统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界面，选择“成绩录入”。点击“分课程按上课班级录入成绩”，可按上课班级“录入理论课程成绩”。或点击“分环节按照行政班级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组次录入成绩”，可“录入实践环节成绩”。点击“查看学生成绩”，可实现“按上课班级查看成绩、打印成绩”，也可实现“按行政班级查看成绩、打印成绩”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755640" y="342828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7.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教室借约（每周三为排考日，不可以预约！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84872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7920000" cy="22338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31" name="Rectangle 10"/>
          <p:cNvSpPr/>
          <p:nvPr/>
        </p:nvSpPr>
        <p:spPr>
          <a:xfrm>
            <a:off x="2199600" y="6021360"/>
            <a:ext cx="4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、评教及查看评价结果、教材征订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453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993080" cy="48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762360" cy="54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10364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333C-1548-4275-BAC0-F8C4760BA5E4}" type="slidenum">
              <a:rPr b="1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目录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539640" y="1125360"/>
            <a:ext cx="770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69800" indent="-46980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◆ 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教务管理系统功能简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◆ 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网络教学平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图片 7" descr="service.jpg"/>
          <p:cNvPicPr/>
          <p:nvPr/>
        </p:nvPicPr>
        <p:blipFill>
          <a:blip r:embed="rId1"/>
          <a:srcRect l="0" t="0" r="0" b="51446"/>
          <a:stretch/>
        </p:blipFill>
        <p:spPr>
          <a:xfrm>
            <a:off x="6516720" y="4724280"/>
            <a:ext cx="208908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84360" y="1067400"/>
            <a:ext cx="80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方法一：登录石河子大学主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教务处主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教务管理系统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选择入口一或入口二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45440" cy="5003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31000" y="606600"/>
            <a:ext cx="31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8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系统功能简介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公共服务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课表实时查询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539640" y="996120"/>
            <a:ext cx="799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方法二：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地址栏输入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202.201.162.135/Jwweb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202.201.162.136/Jwweb/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2       137       138      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76597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82342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864560" cy="427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Rectangle 6"/>
          <p:cNvSpPr/>
          <p:nvPr/>
        </p:nvSpPr>
        <p:spPr>
          <a:xfrm>
            <a:off x="684360" y="1124280"/>
            <a:ext cx="76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可查询班级课表、教师课表、教室课表、公选课课表、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教授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副教授课表、周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节次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课表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52336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56944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684360" y="1126800"/>
            <a:ext cx="7920000" cy="3373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  <a:effectLst>
            <a:outerShdw dist="17819" dir="2700000" blurRad="0" rotWithShape="0">
              <a:srgbClr val="00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单击课程课表，在弹出的页面中，输入课程名称，在下来框中选中确定的课程，输入下方的验证码，然后检索即可看到课表。其他课表查询方法类似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0080" y="907920"/>
            <a:ext cx="8864640" cy="470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80360" cy="583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3924360"/>
            <a:ext cx="8280360" cy="2673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1:45:13Z</dcterms:created>
  <dc:creator>fsc</dc:creator>
  <dc:description/>
  <cp:keywords/>
  <dc:language>en-US</dc:language>
  <cp:lastModifiedBy>User</cp:lastModifiedBy>
  <dcterms:modified xsi:type="dcterms:W3CDTF">2017-11-04T04:13:02Z</dcterms:modified>
  <cp:revision>9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2</vt:lpwstr>
  </property>
</Properties>
</file>